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F6B24-6CFC-4282-9CFF-05A64D07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D0E62-B760-4A2B-8F45-460AC3D8D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020DC-4E9C-4F93-B680-8C5BE631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723F9-3E23-4792-B272-7BB90C2AA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5F363-4F8C-4E64-AB22-4E8469D4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BA516-2288-4290-A33F-84CD74C0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5B440-74A5-4DD3-8D9B-75184CE9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877B5-5490-405A-B22F-68CB892A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C900B-F985-41A4-8626-895479A7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75515-7BD6-4046-9069-EE91B18A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B06A0-87F4-47F4-85B4-9D610D2A6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74E0C-7EC0-421D-A3C9-5B76D4611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7FA81-355F-4BFB-B177-A4F0A5DB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4C24A-7B7D-4AAD-A272-D7A32E88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7170A-FAF6-4A1B-B990-CE2197B9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E0356-6203-43CA-997B-0F847472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69355-08E6-4107-BBE5-D69CE491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994AE-6C86-4F7D-814D-32B4F547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6FD49-B111-4D85-98DA-C70FB892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22B6C-882F-47CA-9862-5DC6ED58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A7ECB-C96B-41FF-B69E-4E8E68190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0708C-62F2-41B4-B23B-75A073D5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4F193-D183-4796-8937-36A2F17E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A9654-2595-4D22-A926-9FA61DD9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F45B7-9FD4-46EE-936D-3A22BD05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0AA0E-6A69-4149-9EC1-8AE00DE1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88E10-0C01-42DD-8BC5-8575E850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844A4-7587-45F1-B371-147785E2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3F271-6BDC-41F4-A2E1-7B67AED5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18ADA-88D0-4C69-9BD3-9FEC61B5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3F796-D2A2-49BB-BEF4-18555F3A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51006-151E-44C6-A84C-DB6F45DC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BC0-57D6-4AD8-A28D-1DFA9022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AA8-9CBC-4908-A5BF-A907237B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14A-6AFE-493A-BA00-9D1428FB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0EF-23E3-4174-954B-5C567F2E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1D5-C0E9-4EDA-AA16-F75E4E2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753-D335-49FD-A951-A0B37B25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E90-AE08-4F37-83BF-4E4F30B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261-8C7B-49C4-A3C8-9565D78B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D1B-E6D1-499E-BF21-EDE86F6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0EB-C566-47B8-90C1-60A94D69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248-AFF2-469C-B299-B907BEF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16A-06DE-4043-AF3F-61E83CC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71BE-8D7E-4CEF-A9DC-735BF725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99cc00"/>
                </a:solidFill>
                <a:latin typeface="AbcPrint"/>
                <a:ea typeface="AbcPrint"/>
              </a:rPr>
              <a:t>Learning Letter Sounds</a:t>
            </a:r>
            <a:br>
              <a:rPr sz="4400"/>
            </a:br>
            <a:r>
              <a:rPr b="0" lang="en-US" sz="4400" spc="-1" strike="noStrike">
                <a:solidFill>
                  <a:srgbClr val="99cc00"/>
                </a:solidFill>
                <a:latin typeface="AbcPrint"/>
                <a:ea typeface="AbcPrint"/>
              </a:rPr>
              <a:t>Jack Hartman</a:t>
            </a:r>
            <a:br>
              <a:rPr sz="4400"/>
            </a:br>
            <a:r>
              <a:rPr b="0" lang="en-US" sz="4400" spc="-1" strike="noStrike">
                <a:solidFill>
                  <a:srgbClr val="99cc00"/>
                </a:solidFill>
                <a:latin typeface="AbcPrint"/>
                <a:ea typeface="AbcPrint"/>
              </a:rPr>
              <a:t>Shake, Rattle, and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900" spc="-1" strike="noStrike">
                <a:solidFill>
                  <a:srgbClr val="000000"/>
                </a:solidFill>
                <a:latin typeface="ZB Manuscript"/>
              </a:rPr>
              <a:t>A</a:t>
            </a: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62160" y="15238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474"/>
              </a:spcBef>
              <a:buClr>
                <a:srgbClr val="000000"/>
              </a:buClr>
              <a:buFont typeface="ZB Manu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900" spc="-1" strike="noStrike">
                <a:solidFill>
                  <a:srgbClr val="000000"/>
                </a:solidFill>
                <a:latin typeface="ZB Manuscript"/>
              </a:rPr>
              <a:t> </a:t>
            </a:r>
            <a:r>
              <a:rPr b="0" lang="en-US" sz="21900" spc="-1" strike="noStrike">
                <a:solidFill>
                  <a:srgbClr val="000000"/>
                </a:solidFill>
                <a:latin typeface="ZB Manuscript"/>
              </a:rPr>
              <a:t>Z</a:t>
            </a: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4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alligator%252001"/>
          <p:cNvPicPr/>
          <p:nvPr/>
        </p:nvPicPr>
        <p:blipFill>
          <a:blip r:embed="rId1"/>
          <a:stretch/>
        </p:blipFill>
        <p:spPr>
          <a:xfrm rot="20329200">
            <a:off x="995400" y="42382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zebra"/>
          <p:cNvPicPr/>
          <p:nvPr/>
        </p:nvPicPr>
        <p:blipFill>
          <a:blip r:embed="rId2"/>
          <a:stretch/>
        </p:blipFill>
        <p:spPr>
          <a:xfrm>
            <a:off x="6629400" y="4481640"/>
            <a:ext cx="2514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Hh says /h/ /h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ippopotamus"/>
          <p:cNvPicPr/>
          <p:nvPr/>
        </p:nvPicPr>
        <p:blipFill>
          <a:blip r:embed="rId1"/>
          <a:stretch/>
        </p:blipFill>
        <p:spPr>
          <a:xfrm>
            <a:off x="4343400" y="2057400"/>
            <a:ext cx="42292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Ii says /i/ /i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MS Mincho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intro_insect-2"/>
          <p:cNvPicPr/>
          <p:nvPr/>
        </p:nvPicPr>
        <p:blipFill>
          <a:blip r:embed="rId1"/>
          <a:stretch/>
        </p:blipFill>
        <p:spPr>
          <a:xfrm>
            <a:off x="4343400" y="205740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Jj says /j/ /j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jet"/>
          <p:cNvPicPr/>
          <p:nvPr/>
        </p:nvPicPr>
        <p:blipFill>
          <a:blip r:embed="rId1"/>
          <a:stretch/>
        </p:blipFill>
        <p:spPr>
          <a:xfrm>
            <a:off x="3733920" y="2043000"/>
            <a:ext cx="47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Kk says /k/ /k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ite_lbl_02"/>
          <p:cNvPicPr/>
          <p:nvPr/>
        </p:nvPicPr>
        <p:blipFill>
          <a:blip r:embed="rId1"/>
          <a:stretch/>
        </p:blipFill>
        <p:spPr>
          <a:xfrm>
            <a:off x="4199040" y="1676520"/>
            <a:ext cx="4944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Ll says /l/ /l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&quot;Lion Sitting&quot; Print"/>
          <p:cNvPicPr/>
          <p:nvPr/>
        </p:nvPicPr>
        <p:blipFill>
          <a:blip r:embed="rId1"/>
          <a:stretch/>
        </p:blipFill>
        <p:spPr>
          <a:xfrm>
            <a:off x="4572000" y="1600200"/>
            <a:ext cx="35622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Mm says /m/ /m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monkey-vs-two-tigers"/>
          <p:cNvPicPr/>
          <p:nvPr/>
        </p:nvPicPr>
        <p:blipFill>
          <a:blip r:embed="rId1"/>
          <a:stretch/>
        </p:blipFill>
        <p:spPr>
          <a:xfrm>
            <a:off x="4800600" y="1523880"/>
            <a:ext cx="35258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Nn says /n/ /n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2004%20Uncirc%20Nickel%20obverse-gs"/>
          <p:cNvPicPr/>
          <p:nvPr/>
        </p:nvPicPr>
        <p:blipFill>
          <a:blip r:embed="rId1"/>
          <a:stretch/>
        </p:blipFill>
        <p:spPr>
          <a:xfrm>
            <a:off x="4648320" y="1873080"/>
            <a:ext cx="40384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Oo says /o/ /o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octopus"/>
          <p:cNvPicPr/>
          <p:nvPr/>
        </p:nvPicPr>
        <p:blipFill>
          <a:blip r:embed="rId1"/>
          <a:stretch/>
        </p:blipFill>
        <p:spPr>
          <a:xfrm>
            <a:off x="4419720" y="1905120"/>
            <a:ext cx="4041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Pp says /p/ /p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imgupload%5Cpumpkin"/>
          <p:cNvPicPr/>
          <p:nvPr/>
        </p:nvPicPr>
        <p:blipFill>
          <a:blip r:embed="rId1"/>
          <a:stretch/>
        </p:blipFill>
        <p:spPr>
          <a:xfrm>
            <a:off x="4572000" y="2057400"/>
            <a:ext cx="404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Qq says /q/ /q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0" spc="-1" strike="noStrike">
                <a:solidFill>
                  <a:srgbClr val="000000"/>
                </a:solidFill>
                <a:latin typeface="ZB Manuscript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1932-D Washington Quarter Obverse"/>
          <p:cNvPicPr/>
          <p:nvPr/>
        </p:nvPicPr>
        <p:blipFill>
          <a:blip r:embed="rId1"/>
          <a:stretch/>
        </p:blipFill>
        <p:spPr>
          <a:xfrm>
            <a:off x="4876920" y="1752480"/>
            <a:ext cx="394488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Rr says /r/ /r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3%20-%20%20rainbows_Resized_300x231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Ss says /s/ /s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F991 B41 - Western Coral Snake, 4 1/2-inch plastic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Tt says /t/ /t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MCAN03906_0000[1]"/>
          <p:cNvPicPr/>
          <p:nvPr/>
        </p:nvPicPr>
        <p:blipFill>
          <a:blip r:embed="rId1"/>
          <a:stretch/>
        </p:blipFill>
        <p:spPr>
          <a:xfrm>
            <a:off x="4267080" y="2286000"/>
            <a:ext cx="4343400" cy="3279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10800000">
            <a:off x="8001000" y="6681240"/>
            <a:ext cx="76320" cy="1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Uu says /u/ /u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000000"/>
                </a:solidFill>
                <a:latin typeface="ZB Manuscript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ainbow_umbrella"/>
          <p:cNvPicPr/>
          <p:nvPr/>
        </p:nvPicPr>
        <p:blipFill>
          <a:blip r:embed="rId1"/>
          <a:stretch/>
        </p:blipFill>
        <p:spPr>
          <a:xfrm>
            <a:off x="4267080" y="1981080"/>
            <a:ext cx="4038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Vv says /v/ /v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violin01"/>
          <p:cNvPicPr/>
          <p:nvPr/>
        </p:nvPicPr>
        <p:blipFill>
          <a:blip r:embed="rId1"/>
          <a:stretch/>
        </p:blipFill>
        <p:spPr>
          <a:xfrm rot="1050600">
            <a:off x="4116240" y="1358640"/>
            <a:ext cx="34099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Ww says /w/ /w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pileated_woodpecker"/>
          <p:cNvPicPr/>
          <p:nvPr/>
        </p:nvPicPr>
        <p:blipFill>
          <a:blip r:embed="rId1"/>
          <a:stretch/>
        </p:blipFill>
        <p:spPr>
          <a:xfrm>
            <a:off x="5070600" y="1600200"/>
            <a:ext cx="319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Xx says /x/ /x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fox"/>
          <p:cNvPicPr/>
          <p:nvPr/>
        </p:nvPicPr>
        <p:blipFill>
          <a:blip r:embed="rId1"/>
          <a:stretch/>
        </p:blipFill>
        <p:spPr>
          <a:xfrm>
            <a:off x="4191120" y="2362320"/>
            <a:ext cx="47242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Yy says /y/ /y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ftp-huck-yoyo"/>
          <p:cNvPicPr/>
          <p:nvPr/>
        </p:nvPicPr>
        <p:blipFill>
          <a:blip r:embed="rId1"/>
          <a:stretch/>
        </p:blipFill>
        <p:spPr>
          <a:xfrm>
            <a:off x="5334120" y="1523880"/>
            <a:ext cx="34830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4419720" y="4267080"/>
            <a:ext cx="22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Aa says /a/ /a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lligator%252001"/>
          <p:cNvPicPr/>
          <p:nvPr/>
        </p:nvPicPr>
        <p:blipFill>
          <a:blip r:embed="rId1"/>
          <a:stretch/>
        </p:blipFill>
        <p:spPr>
          <a:xfrm rot="20329200">
            <a:off x="4593960" y="1892160"/>
            <a:ext cx="3170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Zz says /z/ /z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{short description of image}"/>
          <p:cNvPicPr/>
          <p:nvPr/>
        </p:nvPicPr>
        <p:blipFill>
          <a:blip r:embed="rId1"/>
          <a:stretch/>
        </p:blipFill>
        <p:spPr>
          <a:xfrm>
            <a:off x="4343400" y="2133720"/>
            <a:ext cx="45244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Bb says /b/ /b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Cute baby Manuela"/>
          <p:cNvPicPr/>
          <p:nvPr/>
        </p:nvPicPr>
        <p:blipFill>
          <a:blip r:embed="rId1"/>
          <a:stretch/>
        </p:blipFill>
        <p:spPr>
          <a:xfrm>
            <a:off x="5410080" y="2057400"/>
            <a:ext cx="2503440" cy="3611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10800000">
            <a:off x="7848720" y="1523880"/>
            <a:ext cx="8380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Cc says /c/ /c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riccarle2"/>
          <p:cNvPicPr/>
          <p:nvPr/>
        </p:nvPicPr>
        <p:blipFill>
          <a:blip r:embed="rId1"/>
          <a:stretch/>
        </p:blipFill>
        <p:spPr>
          <a:xfrm rot="21299400">
            <a:off x="4552560" y="2611080"/>
            <a:ext cx="4343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Dd says /d/ /d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inosaur"/>
          <p:cNvPicPr/>
          <p:nvPr/>
        </p:nvPicPr>
        <p:blipFill>
          <a:blip r:embed="rId1"/>
          <a:stretch/>
        </p:blipFill>
        <p:spPr>
          <a:xfrm>
            <a:off x="4267080" y="3124080"/>
            <a:ext cx="4591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Ee says /e/ /e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photo of elephant calf"/>
          <p:cNvPicPr/>
          <p:nvPr/>
        </p:nvPicPr>
        <p:blipFill>
          <a:blip r:embed="rId1"/>
          <a:stretch/>
        </p:blipFill>
        <p:spPr>
          <a:xfrm>
            <a:off x="4724280" y="1676520"/>
            <a:ext cx="3581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Ff says /f/ /f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amily1"/>
          <p:cNvPicPr/>
          <p:nvPr/>
        </p:nvPicPr>
        <p:blipFill>
          <a:blip r:embed="rId1"/>
          <a:stretch/>
        </p:blipFill>
        <p:spPr>
          <a:xfrm>
            <a:off x="4800600" y="1371600"/>
            <a:ext cx="35892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Gg says /g/ /g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Mountain_Gorilla_Rwanda"/>
          <p:cNvPicPr/>
          <p:nvPr/>
        </p:nvPicPr>
        <p:blipFill>
          <a:blip r:embed="rId1"/>
          <a:stretch/>
        </p:blipFill>
        <p:spPr>
          <a:xfrm>
            <a:off x="4433760" y="1676520"/>
            <a:ext cx="425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9:18:59Z</dcterms:created>
  <dc:creator>.</dc:creator>
  <dc:description/>
  <dc:language>en-US</dc:language>
  <cp:lastModifiedBy>Help Desk</cp:lastModifiedBy>
  <dcterms:modified xsi:type="dcterms:W3CDTF">2009-09-16T23:23:14Z</dcterms:modified>
  <cp:revision>9</cp:revision>
  <dc:subject/>
  <dc:title>Learning Letter Sounds</dc:title>
</cp:coreProperties>
</file>